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F89-047D-48D0-B999-BA0906CE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8F7-43F1-4F75-8547-B8C2FA93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EA6-3DF3-498B-8240-BCD7C3E2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C03-017B-4BF2-9D69-B975ADA4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BE0-9000-414C-AE1A-B47E34E1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5B9-5298-480B-95C9-C187A628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A93-EC2C-4718-837D-9D4FC41E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61A-9358-487B-B03D-EAE1F7AB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B7C-87ED-438B-8EF6-653AE890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C3A-DD93-4AFB-88DE-AA1C522F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1AB-2B27-4C23-9386-DF824EB7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8F0-DAF2-4AE0-867A-FABF9701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225C-B9AB-4040-A723-EA680B0F1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Alternative to Lord’s Prayer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arth-maker, Pain-b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e-mak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ource of all that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at shall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 and Mother of us al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ing God, in whom is heav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allowing of your name ec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univer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ay of your just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foll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peoples of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eavenly will b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created being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monwealth of pe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stain our h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e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bread we need for tod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e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hurts we absor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ne ano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imes of temptation and t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rials too great to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par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he grip of all that is evi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e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reign in the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power that is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57:47Z</dcterms:created>
  <dc:creator>Anon Anon</dc:creator>
  <dc:description/>
  <dc:language>en-US</dc:language>
  <cp:lastModifiedBy>Anon Anon</cp:lastModifiedBy>
  <dcterms:modified xsi:type="dcterms:W3CDTF">2005-08-09T05:42:05Z</dcterms:modified>
  <cp:revision>10</cp:revision>
  <dc:subject/>
  <dc:title>Alternative to Lord’s Prayer (SLD-2)</dc:title>
</cp:coreProperties>
</file>