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E57B-A445-46DD-A258-EC1A117DF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485F-1EC7-4B59-8B3C-34CDE2574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E202-5BF7-4510-A2CD-3B63BC831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9093-98A5-49E2-8C24-66A95B42E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F41B-1696-421A-9812-D3E107B1F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E96D-31C7-49C6-9103-84CC509BF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31BF-13AC-4AEF-8555-66FD3D052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4A5E-477C-4494-B877-E662BB9C0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7C9D-65CD-49A6-961C-FD5316FD4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BC73-4701-4621-949C-9B2B31C9E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4462-7860-4D02-B65A-A24A4628C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B1A3-8C86-45B8-AA06-8FA54CD13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1253C-2B37-422C-83B0-BC8795177D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be0e3"/>
                </a:solidFill>
                <a:latin typeface="Arial Narrow"/>
              </a:rPr>
              <a:t>Memorial Acclamation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ith this bread and this c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e do as our Saviour command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e celebrate the redemp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he has won for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Christ has di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Christ is ris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Christ will come aga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0T23:34:20Z</dcterms:created>
  <dc:creator>Anon Anon</dc:creator>
  <dc:description/>
  <dc:language>en-US</dc:language>
  <cp:lastModifiedBy>Anon Anon</cp:lastModifiedBy>
  <dcterms:modified xsi:type="dcterms:W3CDTF">2005-08-09T05:10:19Z</dcterms:modified>
  <cp:revision>8</cp:revision>
  <dc:subject/>
  <dc:title>PowerPoint Presentation</dc:title>
</cp:coreProperties>
</file>