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FC3-5B9B-467F-9C01-D33FA12A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D04-3CDE-44E7-AC28-3D66D047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046-ABFD-475B-BDF8-9542B8A5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1A0-7ED5-47FF-8F83-7F320FFD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F9E-D471-49B9-8E8F-11A17E43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EF1-C009-4DB4-B588-3849A2B1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3DF-1423-4043-9FDB-92EFDBF3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25F-1232-4499-A64C-6B08EDB7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149-087E-4B5B-95EC-576CE7B8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D66-6E24-4D57-A115-E33268C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9F8-3B6E-452B-94A8-78CC138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5FE-404C-43B4-A8D1-920443F1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8F71-E798-48AA-A822-FD32A2F85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him, i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ecause of hi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affirm the Church’s fa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4:57Z</dcterms:created>
  <dc:creator>Anon Anon</dc:creator>
  <dc:description/>
  <dc:language>en-US</dc:language>
  <cp:lastModifiedBy>Anon Anon</cp:lastModifiedBy>
  <dcterms:modified xsi:type="dcterms:W3CDTF">2005-08-09T05:09:48Z</dcterms:modified>
  <cp:revision>8</cp:revision>
  <dc:subject/>
  <dc:title>Memorial Acclamation (SLD-2)</dc:title>
</cp:coreProperties>
</file>