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AD9C-CE6D-45A5-B0F3-0C3234349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1046-3B00-4A9F-8F51-E266F4AAB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2F3F-49B9-49BF-9139-A51077716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9265-A506-48F1-8768-2FC38214D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B034-6912-49E1-875B-CD1B2162E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34AC-B817-424D-8B5B-0B6202104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D2E0-B6AD-4D76-909F-BC9916DFB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B26B-E166-40DC-BFDB-3125C613E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D8E1-B38A-48D3-B90E-8126D042B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AB49-3A79-4E74-B6E5-2B3E2AC2D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A710-CE90-406D-A046-132AB17B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A5EA-2622-46C1-8330-5892942D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BD6AC-900A-47A5-B223-6D79850525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Dismissal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Go in peace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may you carry God’s Wisdom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speak forth God’s Wor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nd embody God’s Presen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herever you a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the name of Christ. 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03:09:47Z</dcterms:created>
  <dc:creator>Anon Anon</dc:creator>
  <dc:description/>
  <dc:language>en-US</dc:language>
  <cp:lastModifiedBy>Anon Anon</cp:lastModifiedBy>
  <dcterms:modified xsi:type="dcterms:W3CDTF">2005-08-09T05:27:25Z</dcterms:modified>
  <cp:revision>7</cp:revision>
  <dc:subject/>
  <dc:title>PowerPoint Presentation</dc:title>
</cp:coreProperties>
</file>