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F270-4F9C-462B-A2D1-5FE917FC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A96-C413-465A-9E4A-E2DF68EE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E66-7A69-4776-BB91-DCFECFAD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BBE-107D-4CDE-AB38-7286AF70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C77-4E04-4D44-810F-F630B494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201-04DB-4D21-913F-809F3234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1BCD-131D-4EBD-A069-1ECCDD4A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33B-244D-4390-9613-752717AE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C3A-5F8A-4459-8EED-4B2FDAB2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154-389A-4C82-AA2F-58103DD1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AB8-77D2-4335-9EB8-17929F5B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057-6CF6-4408-950F-A2E89F9F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80AC-9697-46EF-A148-8F5ACC9C8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ent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ow long shall we cry for help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lis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r cry to you, ‘Violence!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s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 and hope, we respon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long, O people, how l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 is your justice,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purpo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rea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compas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Do you not care for your peop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reation, your repu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urpose is hid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ur ey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reason is absent to our 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passion is not discerned by 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 hop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l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afra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me demand sig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others seek ins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ut we have only Christ cruc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tumbling block and f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the wisdom of our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 is the power and wisdom of God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rely wisdom is vindi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her d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1 Corinthians 1:22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11: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, we appeal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hope, we will not let God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love, we claim God’s atten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et us honour th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receives our cri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gathers us to herself even as we continue to c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23: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9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50:57Z</dcterms:created>
  <dc:creator>Anon Anon</dc:creator>
  <dc:description/>
  <dc:language>en-US</dc:language>
  <cp:lastModifiedBy>Anon Anon</cp:lastModifiedBy>
  <dcterms:modified xsi:type="dcterms:W3CDTF">2005-08-09T05:17:18Z</dcterms:modified>
  <cp:revision>17</cp:revision>
  <dc:subject/>
  <dc:title>Lament (SLD-2)</dc:title>
</cp:coreProperties>
</file>