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CF0-F83A-4512-A915-18628B7A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539-7084-40E4-906D-D51BC044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063-8970-47A5-91A2-7706C5FD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029-1F67-4137-9C5E-F69AB649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744-51CB-42D1-877C-E33BDD85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091-6770-4E65-9E64-CB2318E5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586-7680-4B46-8B88-CADFD766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E9D-4F8A-4E3E-98D2-24E1BF97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741-CF4E-444E-8E32-E58D5166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AA3-1A46-4B9F-A321-5D68B506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E8A-24F7-4418-B7F7-8830C7A5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35F-FE90-409D-B8F6-E41AD5CD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04A7-7629-411C-AE08-CC7A79217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Apostles’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50:20Z</dcterms:created>
  <dc:creator>Anon Anon</dc:creator>
  <dc:description/>
  <dc:language>en-US</dc:language>
  <cp:lastModifiedBy>Anon Anon</cp:lastModifiedBy>
  <dcterms:modified xsi:type="dcterms:W3CDTF">2005-08-16T04:23:30Z</dcterms:modified>
  <cp:revision>10</cp:revision>
  <dc:subject/>
  <dc:title>The Apostles’ Creed</dc:title>
</cp:coreProperties>
</file>