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869-3420-4E07-9AE7-AA3599C8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E2E-39BC-4D0F-A149-0D2577AC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528-2692-4EE3-93B0-5E77AF4F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11C-180E-44A1-8908-699DD82D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881-B32D-48AA-A1AA-44CC924F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3A4-665F-4170-96CF-482C122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A2E-5301-4E7A-B9F5-4655A7C1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AA3-516D-4300-A012-21D0C184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EDC-BECC-4FDA-856D-138C1CFE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E08-4E65-484A-82F3-AEDF11BF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CA3-DC81-48D8-8BB8-05A68487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A0E-8AD0-4CAA-802E-79B026B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033D-8E05-4B79-81E6-708C9DB2E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response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l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offer 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2:37Z</dcterms:created>
  <dc:creator>Anon Anon</dc:creator>
  <dc:description/>
  <dc:language>en-US</dc:language>
  <cp:lastModifiedBy>Anon Anon</cp:lastModifiedBy>
  <dcterms:modified xsi:type="dcterms:W3CDTF">2005-08-09T05:22:07Z</dcterms:modified>
  <cp:revision>8</cp:revision>
  <dc:subject/>
  <dc:title>GPT Response (SLD-2)</dc:title>
</cp:coreProperties>
</file>