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4DF-7324-404F-AD22-FE09B850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DB5-4D56-42B3-81B3-EF3133B5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119-D42A-4C10-B2D5-06425C4A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ED7-FC78-4C63-B228-E86125F3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172-98A8-4307-BC1D-C28A413C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841-BB47-46ED-B1F3-5F906533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E08-4E11-4256-B324-7764A401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122-B1C0-4576-9BBE-C8B16857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023-C31A-4323-9AA3-87F60C29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A25-14B2-4C26-82ED-CFAE19E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DA9-A52A-4A52-8A2E-AC35E6A4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AB2-7CDE-493C-847E-99D843A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4675-6BF0-4E32-8D28-56D44074F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bearer of our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redeemer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019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0:44Z</dcterms:created>
  <dc:creator>Anon Anon</dc:creator>
  <dc:description/>
  <dc:language>en-US</dc:language>
  <cp:lastModifiedBy>Anon Anon</cp:lastModifiedBy>
  <dcterms:modified xsi:type="dcterms:W3CDTF">2005-08-16T04:24:02Z</dcterms:modified>
  <cp:revision>10</cp:revision>
  <dc:subject/>
  <dc:title>PowerPoint Presentation</dc:title>
</cp:coreProperties>
</file>