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B700-D20C-422B-A6F5-44838C65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90D0-5851-462A-9207-74E82265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2B2B-7FAF-400B-A35F-21D96D87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36C8-DB75-4C41-9E29-00D367BC2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A379-9135-41DD-89DC-DA9649AF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AC18-FA01-4447-B861-E9DEE37F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11A5-14A6-4669-8F14-D12F5AA7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7138-C7D4-4B79-A1B6-DC1172EE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5113-3CF6-4739-BCB0-5250C271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D998-BAD4-40F6-91D8-A73E948A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87F2-CB34-4CC2-9225-0ECA47F2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D7B5-B403-45AA-A7B6-536C11C6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3198-808A-46A7-85DB-AD5F73191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Lamb of God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amb of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take away the sin of the wor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amb of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take away the sin of the wor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amb of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take away the sin of the wor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rant us pe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586728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44:46Z</dcterms:created>
  <dc:creator>Anon Anon</dc:creator>
  <dc:description/>
  <dc:language>en-US</dc:language>
  <cp:lastModifiedBy>Anon Anon</cp:lastModifiedBy>
  <dcterms:modified xsi:type="dcterms:W3CDTF">2005-08-16T04:24:18Z</dcterms:modified>
  <cp:revision>14</cp:revision>
  <dc:subject/>
  <dc:title>PowerPoint Presentation</dc:title>
</cp:coreProperties>
</file>