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B93-9F79-4EE5-B4FA-EA7262BD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908-DFD4-4039-A263-0EC3F9A8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FF4-901A-4A56-B33F-6F359143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956-D703-40E0-8466-8BEA6C2C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926-1527-40C1-8B6A-99C02B15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E08-CF94-4AFE-B02F-45C8BF13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AC6-702A-40C3-9B12-D8414AD3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FC3-E739-4E6F-9CD5-970CF74B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EBB-AA7D-4503-B6EB-785BA292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737-F88E-4876-B821-B6D6F96F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BC3-C350-470D-946B-8C1A315F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E9E-852A-41B0-9E32-824320B2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19D0-C99B-45A6-9474-63705515D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all to Worship (lam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ry to God, we cry alou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day of our trou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eek you, Go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as your steadfast love cea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Are your promises at an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Have you forgotten to be gr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nd shut up your compa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all God’s deeds to mi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member your wonders of o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muse up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mighty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way, O God, is holy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77:1-2, 8-9, 11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41:22Z</dcterms:created>
  <dc:creator>Anon Anon</dc:creator>
  <dc:description/>
  <dc:language>en-US</dc:language>
  <cp:lastModifiedBy>Anon Anon</cp:lastModifiedBy>
  <dcterms:modified xsi:type="dcterms:W3CDTF">2005-08-09T05:35:42Z</dcterms:modified>
  <cp:revision>10</cp:revision>
  <dc:subject/>
  <dc:title>Call to Worship (lament)</dc:title>
</cp:coreProperties>
</file>