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6C5-B232-4B81-86BE-F70F6343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6EE-85BA-486E-BBDE-0E0B973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E6B-A185-4D67-AD66-B44171DE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8F4-B640-433F-B509-4A3DD8CD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CBA-9347-4CD1-AA59-633CC7F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E20-64BE-47C8-9759-3EB31EDD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CBC-9873-46DA-8ABE-DAE4D246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ED8-FE55-48A7-A896-09F24A68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C79-99DE-4820-A5B6-3472AB90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49E-D36F-48F0-876E-176AEA55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496-6E82-4E6D-B017-5C86172C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16D-F8D1-4544-B1FE-6639006D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59CF-2707-4CF2-A9FC-40C1FAB65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world belongs t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earth and all it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Psalm 2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ve and peace come toge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stice and peace join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8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good and how lovely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ive together in 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13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f the Lord’s disciples keep si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se stones would shout alo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uke 1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open our 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our mouths shall procla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5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17:11Z</dcterms:created>
  <dc:creator>Anon Anon</dc:creator>
  <dc:description/>
  <dc:language>en-US</dc:language>
  <cp:lastModifiedBy>Anon Anon</cp:lastModifiedBy>
  <dcterms:modified xsi:type="dcterms:W3CDTF">2005-08-09T05:04:47Z</dcterms:modified>
  <cp:revision>6</cp:revision>
  <dc:subject/>
  <dc:title>PowerPoint Presentation</dc:title>
</cp:coreProperties>
</file>