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22D-A3C9-45E0-9421-3B65EA4F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DB1-8A9E-4CCD-841D-4775B84D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CD5-4AB1-401D-8DB7-203B0B91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06C-859B-4956-A2B7-70C5EFE2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6D4-0962-496B-9037-FD00B3E1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286-B118-4A6F-A2D4-1C58C16C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3D7-22EA-42F6-B4BD-D7F5AD63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B75-212F-4FD1-B7FA-6E5716FA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D2D-ACB0-4075-87AF-257D1668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BDF6-CB03-44BB-B51B-DB003CB5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7986-AB7B-4601-8D07-EDAE3BE5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005-0C9B-4507-BC19-B68497A6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A0F1-EDCD-4741-B381-5628B0D46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ly Source of all that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has spoken the eternal W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Jesus Chr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easelessly breathing the Spir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to cre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trust in God’s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isdo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ully revealed in the human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esent to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Spirit’s wor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Church and beyo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that God is call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whole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to a future of justice and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hare in Christ’s risen lif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commit ourselves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rece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ing reign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the only God, Three yet 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 all honour and glory and pra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08:39Z</dcterms:created>
  <dc:creator>Anon Anon</dc:creator>
  <dc:description/>
  <dc:language>en-US</dc:language>
  <cp:lastModifiedBy>Anon Anon</cp:lastModifiedBy>
  <dcterms:modified xsi:type="dcterms:W3CDTF">2005-08-09T05:03:36Z</dcterms:modified>
  <cp:revision>7</cp:revision>
  <dc:subject/>
  <dc:title>PowerPoint Presentation</dc:title>
</cp:coreProperties>
</file>