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444-65F5-4787-A8F9-1B66F7EA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304-DABD-4600-87B0-18C64835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1F4-7A30-4541-A2EF-893E4C38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6FB-D29F-4AFA-A1AB-67B2AAC9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016-E74F-4965-9C67-C762ADFB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C0B-52E5-4023-8C0F-18AD1508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715-B36D-499D-9506-F741CCC8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0DD-9BD2-46FD-A846-4B0AACA3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0DA-0B8A-4AB0-800F-9FBFCF72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5A2-8B2F-4030-8B2C-483A0F2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023-AAFE-477B-8D6D-14066A1C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50C-BDBD-4247-A581-0B07914F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4E4B-C5B9-41A9-B428-BE6BAAC0D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1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3:10Z</dcterms:created>
  <dc:creator>Anon Anon</dc:creator>
  <dc:description/>
  <dc:language>en-US</dc:language>
  <cp:lastModifiedBy>Anon Anon</cp:lastModifiedBy>
  <dcterms:modified xsi:type="dcterms:W3CDTF">2005-08-09T05:25:22Z</dcterms:modified>
  <cp:revision>11</cp:revision>
  <dc:subject/>
  <dc:title>PowerPoint Presentation</dc:title>
</cp:coreProperties>
</file>