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385F-7D90-494E-A6FD-72B0EC0E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75C-B314-4907-9355-8A39F1DE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7ACE-8368-424F-B12D-7D4EA69B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4ED-7F66-4938-9B61-9F2AAFF4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EFA-DF22-4D9B-B9F7-B280EB2F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EB5C-D209-42F0-8E03-18EF2A07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84DB-1C49-49EE-A8ED-54C9D63C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C465-7F1C-4BF0-83B0-299463E9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D6B4-9435-4D3A-B8DD-0D57CF11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FD9-AC95-492B-B18D-ED598322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AE5C-A408-49BC-A541-87C9932E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17D-D342-4724-8AC3-4F94527A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CA95-39EB-4E17-80E4-62050F934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Alternative to Lord’s Prayer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ternal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arth-maker, Pain-bear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ve-mak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ource of all that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at shall 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ather and Mother of us all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ving God, in whom is heav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allowing of your name ech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univers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way of your just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 follow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all peoples of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heavenly will be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all created being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ommonwealth of pe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free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stain our h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come 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bread we need for toda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ee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hurts we absor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one another, forgiv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imes of temptation and te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trengthe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trials too great to end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par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the grip of all that is evi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e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you reign in the gl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power that is lo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e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57:47Z</dcterms:created>
  <dc:creator>Anon Anon</dc:creator>
  <dc:description/>
  <dc:language>en-US</dc:language>
  <cp:lastModifiedBy>Anon Anon</cp:lastModifiedBy>
  <dcterms:modified xsi:type="dcterms:W3CDTF">2005-08-09T05:42:05Z</dcterms:modified>
  <cp:revision>10</cp:revision>
  <dc:subject/>
  <dc:title>Alternative to Lord’s Prayer (SLD-2)</dc:title>
</cp:coreProperties>
</file>