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B03-14CB-4E62-B055-BA4568F7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003-EFEA-430D-90A1-ED5D4FD3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2A7-DE0A-418D-BE2A-E6F473F8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505-7AEB-48D1-9393-084D7371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B2D-1D0B-46D9-8B42-009D8661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485-44D7-43FA-9307-1123856D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774-9F56-4C93-AFE0-2B53A839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B58-1612-481D-9F81-B8624898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5D3-5DC1-4F5B-B06C-271FABFE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B3CB-DE5E-4A53-B3E1-DB754EB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7D7-0A07-4ACB-A48D-9370FA09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1F3-5147-4057-BCE3-B6BFD085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C470-B18B-4925-93EF-9DB289A86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Apostles’ Creed (baptismal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unity with the whole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stand and affirm the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to which we were bapti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Jesus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the Holy Spir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6 of 6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40:14Z</dcterms:created>
  <dc:creator>Anon Anon</dc:creator>
  <dc:description/>
  <dc:language>en-US</dc:language>
  <cp:lastModifiedBy>Anon Anon</cp:lastModifiedBy>
  <dcterms:modified xsi:type="dcterms:W3CDTF">2005-08-16T04:23:11Z</dcterms:modified>
  <cp:revision>19</cp:revision>
  <dc:subject/>
  <dc:title>PowerPoint Presentation</dc:title>
</cp:coreProperties>
</file>