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4989-6CF8-4B2B-8779-2A9BFC02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E6C6-8175-43DE-B564-1F694472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F3A4-18D8-4217-BB06-6D25E56A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FED9-538C-4AF8-9216-FD7C00E4A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4DE5-FAB2-4D59-8C56-317DC09C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C07B-B710-435B-9BBA-3FC8E9E1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348D-687D-475A-863D-D56DDB97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C888-13DF-4BF4-821F-65E4794E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95ED-07C4-4CC2-908D-9D901171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20EE-F84B-4512-AC39-8AE61CC7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976E-D763-43E5-9296-27630F66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02B4-FAB3-4CCD-A316-9314A74B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8F52-674F-49D9-B93D-5B72F71F4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Collect for P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mighty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whom all hearts are op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l desires know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from whom no secre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re hidd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leanse the thoughts of our he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the inspi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your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at we may perfectly love you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orthily magnif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holy nam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Christ our Lord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09:59:40Z</dcterms:created>
  <dc:creator>Anon Anon</dc:creator>
  <dc:description/>
  <dc:language>en-US</dc:language>
  <cp:lastModifiedBy>Anon Anon</cp:lastModifiedBy>
  <dcterms:modified xsi:type="dcterms:W3CDTF">2005-08-09T05:34:13Z</dcterms:modified>
  <cp:revision>11</cp:revision>
  <dc:subject/>
  <dc:title>PowerPoint Presentation</dc:title>
</cp:coreProperties>
</file>