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F1C-10B1-4F70-B078-E766AF0C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E6C-E599-4F89-950D-E2EC66F3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EC9-FAE7-4268-8733-B6DE655A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2C6-8537-4A5B-889A-1DFE7A60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FCE-78D6-4C2E-83DE-96158D93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541-4B39-472F-96ED-F5582F16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BC5-0833-4EBE-BE00-C00A6469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1A9-74DF-4662-98C2-406BF94E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90C-1782-4CE3-B7E7-CBFF9271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FB7-387A-4092-8B83-F29676A2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E93-AC0A-4ACE-A3D7-153A4E84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E35-1250-444C-9298-D23FCE0C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92E4-38CB-4E25-8943-FEAF8FC45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after Commun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calls us together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makes us one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has forgiven our s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gives hope and freed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se Word is proclaim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is revealed as lover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alone has call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refore we offer all that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l we shall be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, O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ur sacrifice of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ccept our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that we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hands were emp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you filled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8:10Z</dcterms:created>
  <dc:creator>Anon Anon</dc:creator>
  <dc:description/>
  <dc:language>en-US</dc:language>
  <cp:lastModifiedBy>Anon Anon</cp:lastModifiedBy>
  <dcterms:modified xsi:type="dcterms:W3CDTF">2005-08-09T05:07:23Z</dcterms:modified>
  <cp:revision>12</cp:revision>
  <dc:subject/>
  <dc:title>Prayer after Communion (SLD-2)</dc:title>
</cp:coreProperties>
</file>