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FACC-A75C-47F0-B0D7-AF0479ED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17DE-40A2-46F2-9E34-ACB07EC5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E54F-C021-4F86-BD81-9D937C05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E5DC-5A08-438B-B9A4-5C557F74A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FD47-D8BF-451B-919C-3DA86BDA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26F8-DD55-4FC5-AE7E-117316F9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E411-D179-4DD6-A427-2B4E7D0F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8BFE-2FE5-4798-B22E-8FC04056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1932-9F52-4F28-AB65-EA6E7D2E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0A6E-5D73-4FB0-BB57-FF2107A3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D0FF-9E01-4DD6-85D7-2A00BF6E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3D8A-7312-4DC2-A26C-65B9214C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D817-98E6-45EF-A953-7B6252E34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Arial Narrow"/>
              </a:rPr>
              <a:t>Memorial Acclama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rough him, in hi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because of hi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affirm the Church’s faith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has di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is ris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will come ag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0:04:57Z</dcterms:created>
  <dc:creator>Anon Anon</dc:creator>
  <dc:description/>
  <dc:language>en-US</dc:language>
  <cp:lastModifiedBy>Anon Anon</cp:lastModifiedBy>
  <dcterms:modified xsi:type="dcterms:W3CDTF">2005-08-09T05:09:48Z</dcterms:modified>
  <cp:revision>8</cp:revision>
  <dc:subject/>
  <dc:title>Memorial Acclamation (SLD-2)</dc:title>
</cp:coreProperties>
</file>