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C65-CE3D-40EE-8C8D-2169EB01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2A0-92CD-4E36-BCD8-DDA1522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367-0159-4FAC-93EA-6E7AC4FC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6A1-69DA-4C82-9869-A76186D6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B3B-593F-45EE-903A-A055A37A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4A6-BFCA-4B09-8967-652EE2DE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08F-9715-4570-988C-7B9594BC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32B-4B82-478F-A871-0410BC0B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006-773C-4F13-9FE6-8A74C249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4C3-9076-4F55-A2DB-8EDF828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A33-4EC9-4D03-BA63-70B9B4F2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D47-BB11-47E4-818E-BA215A5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1C1D-4655-4E3A-92FD-B6E05DB43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Apostles’ Creed (baptismal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unity with the whole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stand and affirm the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to which we were bapti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Jesus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the Holy Spir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6 of 6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40:14Z</dcterms:created>
  <dc:creator>Anon Anon</dc:creator>
  <dc:description/>
  <dc:language>en-US</dc:language>
  <cp:lastModifiedBy>Anon Anon</cp:lastModifiedBy>
  <dcterms:modified xsi:type="dcterms:W3CDTF">2005-08-16T04:23:11Z</dcterms:modified>
  <cp:revision>19</cp:revision>
  <dc:subject/>
  <dc:title>PowerPoint Presentation</dc:title>
</cp:coreProperties>
</file>