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7674-B02B-4005-818C-E9ECF52B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7CA-82A3-48B1-92B0-CA2DD118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991-F5B6-4E40-8EC3-75DA1E97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AE0-2B06-45B5-A4C6-9EFC6913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9B7-30F1-43B6-ADDE-A36E4A33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723-92C5-4E5E-88AE-9D6FC896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E56-F0C8-4D5F-92AB-E717A72A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08F-2C37-4B7E-80D0-8E70197C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6CB-0CD1-4D27-A562-B2C0078C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2FB-675F-4C0D-979F-89F36E5B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6C5-011C-4E12-904A-DC7D2337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6AE-FCD8-4811-8D30-0206A1E7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8BE1-4E2E-4734-8E22-1304B607D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Nicene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, the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aker of heaven and ear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all that is, seen and uns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only Son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ly begotte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from God, Light from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rue God from tru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gotten, not mad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one Being with the Fathe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him all th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re m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us and for our sal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came down from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incarnate of the Holy Spirit and the Virgin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became truly hu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our sake he was crucifi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der Pontius Pilat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suffered dea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accord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Scriptur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will come again in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judge the living and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is kingdom will have no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the Holy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ord, the giver of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proceeds from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ith the Father and the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s worshipped and glor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proph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holy catho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postolic Chur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cknowledge one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forgiveness of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ook for the resurr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of the world to come.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9 of 9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8:07:06Z</dcterms:created>
  <dc:creator>Anon Anon</dc:creator>
  <dc:description/>
  <dc:language>en-US</dc:language>
  <cp:lastModifiedBy>Anon Anon</cp:lastModifiedBy>
  <dcterms:modified xsi:type="dcterms:W3CDTF">2005-08-16T04:24:38Z</dcterms:modified>
  <cp:revision>26</cp:revision>
  <dc:subject/>
  <dc:title>Nicene Creed</dc:title>
</cp:coreProperties>
</file>