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227-5AF1-4942-8620-EAF0845A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861-8D3E-43F7-97CC-6A74CDEA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C0A-E126-4634-9B93-2F8A6EB0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0D3-579D-44F7-8209-67F42F4D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9293-A689-4BD1-8068-436F968A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A40-E8D5-4AFF-A1C9-4BD0243B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B4C-305B-4F83-8EC0-BD7FCE40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9D9-0572-43A6-AE1A-D807722E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5F9-C72B-4BFA-B643-B5472F65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BA9-EA55-4CBB-9F0E-D544D612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889-7836-4B1E-89E9-84B99041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B77-F036-4F31-A648-C6EE204F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E79B-1BC6-4E4F-9CB0-2D194E861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Baptism: question to con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riends in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ll you promise to maintain a lif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f worship and teach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ness and serv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o that N</a:t>
            </a: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ay gr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maturity in Chr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God’s help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will live out our bap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a loving community in Chr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urturing one another in fai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pholding one another in pray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encouraging one an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servi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ntil Christ c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3:25:44Z</dcterms:created>
  <dc:creator>Anon Anon</dc:creator>
  <dc:description/>
  <dc:language>en-US</dc:language>
  <cp:lastModifiedBy>Anon Anon</cp:lastModifiedBy>
  <dcterms:modified xsi:type="dcterms:W3CDTF">2005-08-09T05:36:22Z</dcterms:modified>
  <cp:revision>10</cp:revision>
  <dc:subject/>
  <dc:title>PowerPoint Presentation</dc:title>
</cp:coreProperties>
</file>