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E9D5-B5A9-43A8-9172-26E7A8401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85A2-3C27-41D6-B24B-2096CA47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28A7-7093-457F-ADC0-AEC1CC7FC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BFB5-3F01-498E-B6F2-72B1B86ED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3E72-200B-4838-8D49-843851F1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65BF-4043-4B35-85A9-3B46503E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D052-F90B-4ABD-BAF2-1E762F89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C08E-BB1C-45C5-A71A-5D13913E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832B-B129-4D48-B01B-610A0F01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87FA-7395-4964-AE0E-7E8B0D20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DBFC-BA6E-48A3-B997-967FFB81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0AC9-13FE-4500-A6C2-E241B685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61F6-6CDD-4062-947D-9DC2CB3B8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e grace of the Lord Jesus Chr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the love of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the communion of the Holy Spir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e with you all.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also with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0:04:49Z</dcterms:created>
  <dc:creator>Anon Anon</dc:creator>
  <dc:description/>
  <dc:language>en-US</dc:language>
  <cp:lastModifiedBy>Anon Anon</cp:lastModifiedBy>
  <dcterms:modified xsi:type="dcterms:W3CDTF">2005-08-09T05:21:46Z</dcterms:modified>
  <cp:revision>8</cp:revision>
  <dc:subject/>
  <dc:title>PowerPoint Presentation</dc:title>
</cp:coreProperties>
</file>