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27FD-09BE-4956-8E77-4825D74A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89F-71AC-4C9D-863F-5E82FB55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732-67D8-401D-B6B1-C47C9268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919-CDA9-4C2F-900E-3070207F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EBC-4812-421D-8D28-037AD6C2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3C7-D570-40E7-8059-5E017FEB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257-4C61-46A6-97E3-572DF8D5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336-A262-4E65-9507-82B834E4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22E-2C20-46A3-A071-EDDFF461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442-62E8-4272-A327-943929E8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BBD-EE45-4293-BAEB-841D762A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A7F-8833-4B94-AF12-4DF42392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2316-8D34-4F5C-97F3-756D836B3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Go in pea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refreshed and renew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the eternal love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8:04Z</dcterms:created>
  <dc:creator>Anon Anon</dc:creator>
  <dc:description/>
  <dc:language>en-US</dc:language>
  <cp:lastModifiedBy>Anon Anon</cp:lastModifiedBy>
  <dcterms:modified xsi:type="dcterms:W3CDTF">2005-08-09T05:27:48Z</dcterms:modified>
  <cp:revision>7</cp:revision>
  <dc:subject/>
  <dc:title>PowerPoint Presentation</dc:title>
</cp:coreProperties>
</file>