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6571-4B9A-4B84-98B7-EA9300E4A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5256-7666-45D2-A356-04C27CE30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43E2-AC66-4F39-A9A8-47CB1DCD7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7B0C-B55F-435D-BBBD-0F7DD7328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B81B-1654-43BC-8C31-E54342428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A1A0-253E-4BE9-8C74-7164C83AA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7321-F520-4AFB-ABE9-6EBB2FE43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2FEC-0919-4E97-A518-109D92832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4386-B169-4342-B8A7-E859FB96B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4F28-FF85-423B-BBD9-1D309292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75C4-6017-40CC-9541-516280BC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A032-954E-4D67-9340-F0D4CA98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588E7-7D6C-458F-A269-984702EBA9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 Narrow"/>
              </a:rPr>
              <a:t>Prayer of Adoration (SLD-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We praise you, O Go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your humility, you seek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your mercy, you keep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your humiliation, you glorify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1 of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your generosity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 provide for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your wisdom, you place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your might, you shield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2 of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your governanc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 make us ho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your communion, you teach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your love, you lift us u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Based on </a:t>
            </a:r>
            <a:r>
              <a:rPr b="0" i="1" lang="en-US" sz="2400" spc="-1" strike="noStrike">
                <a:solidFill>
                  <a:srgbClr val="bbe0e3"/>
                </a:solidFill>
                <a:latin typeface="Arial"/>
              </a:rPr>
              <a:t>T</a:t>
            </a:r>
            <a:r>
              <a:rPr b="0" i="1" lang="en-US" sz="2400" spc="-1" strike="noStrike">
                <a:solidFill>
                  <a:srgbClr val="bbe0e3"/>
                </a:solidFill>
                <a:latin typeface="Arial"/>
              </a:rPr>
              <a:t>he Nine Choirs: How They Sing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by Mechtild of Magdeburg (1210-128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3 of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24:36Z</dcterms:created>
  <dc:creator>Anon Anon</dc:creator>
  <dc:description/>
  <dc:language>en-US</dc:language>
  <cp:lastModifiedBy>Anon Anon</cp:lastModifiedBy>
  <dcterms:modified xsi:type="dcterms:W3CDTF">2005-08-09T05:45:24Z</dcterms:modified>
  <cp:revision>8</cp:revision>
  <dc:subject/>
  <dc:title>PowerPoint Presentation</dc:title>
</cp:coreProperties>
</file>