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7C6-6487-4A76-93B8-10019817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F30-7DBC-4E29-94A2-381F2426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889-5112-42F3-BCCD-F1144816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8EC-CF94-4B06-87E7-83585AA7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908-0799-40D4-9384-6C773CD9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E85-EC7F-479C-B500-32AE198A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C8F-A7E7-4845-BF45-56617C4D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9B9-F592-4438-A19E-C6F9DA11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9CF-75BF-4000-89B3-CB8F721F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6533-0602-4C33-B910-0416C153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8F7-CE77-4811-96F9-D65BC7AE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4EF-5E2E-490E-997E-03309CB5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56C3-7BE3-4DC7-886A-FE044160F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he Lord be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ift up y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ift them to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give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o the Lord our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t is right to g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5:04Z</dcterms:created>
  <dc:creator>Anon Anon</dc:creator>
  <dc:description/>
  <dc:language>en-US</dc:language>
  <cp:lastModifiedBy>Anon Anon</cp:lastModifiedBy>
  <dcterms:modified xsi:type="dcterms:W3CDTF">2005-08-09T05:22:47Z</dcterms:modified>
  <cp:revision>12</cp:revision>
  <dc:subject/>
  <dc:title>PowerPoint Presentation</dc:title>
</cp:coreProperties>
</file>