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3A03-BC33-4328-9827-CDE89FCE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EDD-1E9F-4163-9FD1-C32082DB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B4C-B025-4971-A550-E264E876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659-0990-4F4B-86F0-DBD3793B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70B-3213-499D-A009-87BF8FB8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D9D-640A-4DCC-8411-C0EF7443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238-4B18-4BB9-847E-F712D5F6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3BD-C616-4CC3-BD94-53FC6B9C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49A0-9819-43F0-AB09-9039BE6D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F75-0560-4959-8263-5280B939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4ED-15C0-4598-804D-9C38B7CD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D22-FF84-45CF-99BF-357C0C97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3DB9-14B7-4CB6-8E07-952193C57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Wisdom of God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isdom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ord made fles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iberator of crea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4:49Z</dcterms:created>
  <dc:creator>Anon Anon</dc:creator>
  <dc:description/>
  <dc:language>en-US</dc:language>
  <cp:lastModifiedBy>Anon Anon</cp:lastModifiedBy>
  <dcterms:modified xsi:type="dcterms:W3CDTF">2005-08-09T05:00:58Z</dcterms:modified>
  <cp:revision>8</cp:revision>
  <dc:subject/>
  <dc:title>Wisdom of God (SLD-2)</dc:title>
</cp:coreProperties>
</file>