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B86B-F1E1-4230-9AD8-37C1709A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D9B-EB11-4002-AF09-4E1DD5F0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FEFA-25C1-4B39-A943-BC05FD75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556-D89D-4F90-BE01-C32BD50E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2ED-ED06-4F61-8FF0-F87B6269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B46-8F2D-4A46-9170-5F5F006C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8BB-7E4F-4A98-BC1C-439EBFBD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806-1D71-4758-94B5-FA6D40B7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B40-6CFB-4218-ADDC-CF5CC34F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9F0-6EEF-4A19-B565-68F8C37C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F16-45C9-44F6-80B5-C1F69B26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78EE-75B3-4CF6-9880-EB313988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5B7A-EE3E-4999-A5FC-75356C3FC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grace of the Lord Jesus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 love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 communion of the Holy 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e with you all.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so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0:04:49Z</dcterms:created>
  <dc:creator>Anon Anon</dc:creator>
  <dc:description/>
  <dc:language>en-US</dc:language>
  <cp:lastModifiedBy>Anon Anon</cp:lastModifiedBy>
  <dcterms:modified xsi:type="dcterms:W3CDTF">2005-08-09T05:21:46Z</dcterms:modified>
  <cp:revision>8</cp:revision>
  <dc:subject/>
  <dc:title>PowerPoint Presentation</dc:title>
</cp:coreProperties>
</file>