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A91-D468-4222-A29B-40295984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C06-85CC-4EA8-95DB-7C522B79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EAA-6F61-4BA5-9DD0-7C679702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440-EF1B-4B47-AC32-C1873BC2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7FF-6F2C-49F7-9E07-C842A140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1EB-FA28-4848-8A50-6E4D44B5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147-94D2-424F-BDCD-AFDA3903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4A4-4262-4C07-BEA9-20B5A9B1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2E2-69C7-46A6-8921-4543805D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E55-DBC4-4717-980A-F6BA76A7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3F2-F5AC-4630-BD0F-31DAFF21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A7B-9F7B-43CE-8452-3BC1C1E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137C-2722-4398-A0F0-E18B7F694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he Lord be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ift up y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ift them to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give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o the Lord our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t is right to g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5:04Z</dcterms:created>
  <dc:creator>Anon Anon</dc:creator>
  <dc:description/>
  <dc:language>en-US</dc:language>
  <cp:lastModifiedBy>Anon Anon</cp:lastModifiedBy>
  <dcterms:modified xsi:type="dcterms:W3CDTF">2005-08-09T05:22:47Z</dcterms:modified>
  <cp:revision>12</cp:revision>
  <dc:subject/>
  <dc:title>PowerPoint Presentation</dc:title>
</cp:coreProperties>
</file>