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A7F-B7C2-4B0C-A9DC-2A0054C8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ACA-DE4B-4E8B-A9FE-D319A8DE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9A1D-0EA3-4567-858D-095D5E28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079-5AED-4BBC-B9DE-3B8BCAE9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3B3-DA2C-42C7-9C5C-307BECCC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224-699D-4E72-8344-B9DD2D95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38C-2C05-4E95-BC0F-195798D0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42B-DE68-4886-9AD9-1BDA9C21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DF7-1F1A-4C82-AFDE-2071636E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E38-4A82-4F74-9675-96069AA7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516-45D6-4CB9-B595-8DC18C43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322-6C1A-4102-872E-6166C287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9B62-F519-43E8-9E14-EE3096CD4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all to Worship (lame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ry to God, we cry alou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day of our trou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eek you, Go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as your steadfast love ceas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or 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Are your promises at an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Have you forgotten to be gra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nd shut up your compa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all God’s deeds to mi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member your wonders of o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muse up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mighty 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way, O God, is holy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77:1-2, 8-9, 11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41:22Z</dcterms:created>
  <dc:creator>Anon Anon</dc:creator>
  <dc:description/>
  <dc:language>en-US</dc:language>
  <cp:lastModifiedBy>Anon Anon</cp:lastModifiedBy>
  <dcterms:modified xsi:type="dcterms:W3CDTF">2005-08-09T05:35:42Z</dcterms:modified>
  <cp:revision>10</cp:revision>
  <dc:subject/>
  <dc:title>Call to Worship (lament)</dc:title>
</cp:coreProperties>
</file>