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33E2-899A-49D6-967F-839375925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7366-117D-4801-BCB6-25A474EC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A4FA-7CBA-4FD5-B679-4929DFB1C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C09A-BF0E-457B-A416-6394604F0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AD33-0324-49EC-87F6-E74B1EB1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B47B-A128-482A-96B9-B1B4BCB9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B408-0A63-4F48-B69C-FAD2EF03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E716-6616-404F-A82F-260B7B7E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48B2-5C97-48E9-92DA-EF368964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2A49-A7CC-4182-A4EF-81ECDB95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3F59-1D24-4B05-A9B1-3A7CA386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9FD4-8C27-483B-808A-278F71E5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F8B1-E466-4DD7-A3BC-C64E7AB4C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GPT response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oly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offer our thanks and prai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0:02:37Z</dcterms:created>
  <dc:creator>Anon Anon</dc:creator>
  <dc:description/>
  <dc:language>en-US</dc:language>
  <cp:lastModifiedBy>Anon Anon</cp:lastModifiedBy>
  <dcterms:modified xsi:type="dcterms:W3CDTF">2005-08-09T05:22:07Z</dcterms:modified>
  <cp:revision>8</cp:revision>
  <dc:subject/>
  <dc:title>GPT Response (SLD-2)</dc:title>
</cp:coreProperties>
</file>