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EFE-F181-481A-AEBC-84A3563A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67D-D860-4620-B933-62E10E38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8E5-5D64-490B-B1B8-97DEF214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009-4235-41C8-AF00-51F6186C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E24-03F0-44C0-BA4B-3B3488C5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733-C650-41FA-9167-E38CC5C7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6AC-1BBC-4C36-8BF5-644FF38A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774-C8F2-47D3-8631-4A58D9DA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E2E-9508-44DB-8FEF-1A093229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8BF-B9D4-4A58-97A7-1BABB3FB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0E8-9143-4AF5-8B57-E372B8CB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AFB-A4B8-4DD6-8485-9A27268C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2520-D566-4670-87A4-54D9FA9BA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bearer of our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redeemer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019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0:44Z</dcterms:created>
  <dc:creator>Anon Anon</dc:creator>
  <dc:description/>
  <dc:language>en-US</dc:language>
  <cp:lastModifiedBy>Anon Anon</cp:lastModifiedBy>
  <dcterms:modified xsi:type="dcterms:W3CDTF">2005-08-16T04:24:02Z</dcterms:modified>
  <cp:revision>10</cp:revision>
  <dc:subject/>
  <dc:title>PowerPoint Presentation</dc:title>
</cp:coreProperties>
</file>