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FE6-FF93-448D-A92D-3E7DAFCF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479-B5B9-492F-8808-E669D54B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4C8-67EA-4145-80A1-965B532C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B27-4008-4749-A9B0-762B17CC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5A76-C976-4146-B76C-E483D5D7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CC9-0A06-416E-988D-9981D7A1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81F2-7CDA-46BA-990F-9385B53D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EC2-B3E9-482F-9FDC-B2205DBD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FCB-9E8D-48D5-A176-E5635D49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D070-85CD-4094-BFF5-C54B74A5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7E5-7FEA-4BD7-85BC-E67C1304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7B1-4B66-422F-A220-EC846D53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4ACA-3B67-4C05-B166-F6D476861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Go in peac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refreshed and renew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 the eternal love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3:08:04Z</dcterms:created>
  <dc:creator>Anon Anon</dc:creator>
  <dc:description/>
  <dc:language>en-US</dc:language>
  <cp:lastModifiedBy>Anon Anon</cp:lastModifiedBy>
  <dcterms:modified xsi:type="dcterms:W3CDTF">2005-08-09T05:27:48Z</dcterms:modified>
  <cp:revision>7</cp:revision>
  <dc:subject/>
  <dc:title>PowerPoint Presentation</dc:title>
</cp:coreProperties>
</file>