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0BDE-C466-456D-838A-6574982A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291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F243-2B74-4285-85BF-9528E2A9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8183-10A2-4A35-B498-7A8DA356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76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76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291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291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291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A997-CF35-4737-B30C-9069CA2E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3B68-C7F8-4C7D-B8A1-919D2B47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A24E-EBC2-4962-98B8-E9C4B3F5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91C8-686C-45F8-9C56-25EB6622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373D-A4F0-4858-A466-D8C8D113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A632-4D88-46F9-8FE1-C1F91172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4BF0-CC55-47EF-A0A0-FA0E78D5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D071-5AC9-406C-B7DB-74E42151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291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E88B-D128-4ACF-8AB0-F8051779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1769-2B35-4E15-B97D-87DBD7D10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Prayer of Adorat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ll your children are writt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n your hands: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are a m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neither forge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nor forsakes her 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ee Isaiah 49:15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efore we were born, you knew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our mothers’ womb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formed us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be0e3"/>
                </a:solidFill>
                <a:latin typeface="Arial"/>
              </a:rPr>
              <a:t>Psalm 139: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Before all beginning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you called us b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Beyond all endings,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you will remember us in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bbe0e3"/>
                </a:solidFill>
                <a:latin typeface="Arial"/>
              </a:rPr>
              <a:t>Psalm 139: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, O Wisdom, do not forg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r childr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ike a hen, you gather your chicks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ee Matthew 23:37; Luke 13: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27:00Z</dcterms:created>
  <dc:creator>Anon Anon</dc:creator>
  <dc:description/>
  <dc:language>en-US</dc:language>
  <cp:lastModifiedBy>Anon Anon</cp:lastModifiedBy>
  <dcterms:modified xsi:type="dcterms:W3CDTF">2005-08-09T05:06:22Z</dcterms:modified>
  <cp:revision>11</cp:revision>
  <dc:subject/>
  <dc:title>Prayer of Adoration (SLD-2)</dc:title>
</cp:coreProperties>
</file>