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D56-7C91-4159-B430-2A9B79D2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325-08CA-4AAD-BFB4-197559A1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FE8-7D3C-4999-A7B5-EED66524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181-469E-4E40-ACC1-25446660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A43-22A4-48B7-B8EC-3413B075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23A-103A-4B5C-A12C-5D97AD0B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A43-A232-4DCD-B0BF-39032CCD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B0B-44C0-4818-8C4B-34BC310D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710-FC97-499B-BD75-38655E25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12F-31F4-49A9-B5FC-E382017F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A8D-2FFF-4198-A115-963845E7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FC7-5A89-40F6-831D-A8DEB192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5D36-EBA9-4B74-A343-9FB93A62A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llect for P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whom all hearts are op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desires kn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om whom no secr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hidd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leanse the thoughts of our he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inspi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your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t we may perfectly love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orthily magn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oly na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9:59:40Z</dcterms:created>
  <dc:creator>Anon Anon</dc:creator>
  <dc:description/>
  <dc:language>en-US</dc:language>
  <cp:lastModifiedBy>Anon Anon</cp:lastModifiedBy>
  <dcterms:modified xsi:type="dcterms:W3CDTF">2005-08-09T05:34:13Z</dcterms:modified>
  <cp:revision>11</cp:revision>
  <dc:subject/>
  <dc:title>PowerPoint Presentation</dc:title>
</cp:coreProperties>
</file>