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20A-A9B2-4041-9173-6E6573D7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356-8C02-4DDC-AFC9-C8A780AB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191-AE55-4ABD-AF3D-23366CE5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02F-8056-432A-961F-EA97C288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D97-9679-4CD5-A38B-E32C5AF1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653-4AE6-4FAF-94A8-A245D0F7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2AA-71DA-452B-A830-0AD1FF28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8A0-5045-4A7B-BCFB-AD76BFB1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917-B115-4BFE-8313-C719BAB1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C3E-7E68-48ED-8BB1-13565BD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86C-59F6-4922-B0D1-54BB3DAA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406-9C81-45B5-908B-C6413392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6E3E-059F-4F7F-B0F9-A497A2BD4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you carry God’s Wisd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peak forth God’s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embody God’s Pres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ver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9:47Z</dcterms:created>
  <dc:creator>Anon Anon</dc:creator>
  <dc:description/>
  <dc:language>en-US</dc:language>
  <cp:lastModifiedBy>Anon Anon</cp:lastModifiedBy>
  <dcterms:modified xsi:type="dcterms:W3CDTF">2005-08-09T05:27:25Z</dcterms:modified>
  <cp:revision>7</cp:revision>
  <dc:subject/>
  <dc:title>PowerPoint Presentation</dc:title>
</cp:coreProperties>
</file>