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8790-8FE2-43EB-B232-CEE9F724F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6C1F-F1FB-4790-922A-636A246C6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4833-E64B-48DF-B19D-128F218DA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31A7-CB64-4019-AB33-36E12693E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E338-4406-4DFC-8036-C4EC09E81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174C-FAA4-4A1B-AD3A-D51A03571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A91C-0467-4CEC-9C0E-E42E3DF21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9E31-79C6-4602-B9C5-453FCB768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732F-808F-4102-97B7-1E601A284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F630-C2CB-470A-A617-336EF25BB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CBFF-AD95-4F0A-A735-61DA2E08C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3826-6EC1-41DB-BC74-61314230E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9A4D1-B2EB-4ED4-BA95-C0FE934ACB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Dismissal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Go in peace to lov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and serve the Lord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n the name of Christ. Amen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0T23:48:39Z</dcterms:created>
  <dc:creator>Anon Anon</dc:creator>
  <dc:description/>
  <dc:language>en-US</dc:language>
  <cp:lastModifiedBy>Anon Anon</cp:lastModifiedBy>
  <dcterms:modified xsi:type="dcterms:W3CDTF">2005-08-09T05:28:13Z</dcterms:modified>
  <cp:revision>8</cp:revision>
  <dc:subject/>
  <dc:title>PowerPoint Presentation</dc:title>
</cp:coreProperties>
</file>