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C34-E349-4F33-9D96-023F0D69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2B5-7305-446B-A523-B3B80F4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399-2E14-4C4D-A1F3-6251B74F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395-30DB-4261-BEA2-2DEAB338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F32-89B0-4FCB-9B64-26087516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FD6-540C-4351-BDD2-59279098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7D6-F890-4FEB-AB22-AB1B58C0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D68-1AD1-4375-A62C-8C219751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0AE-500C-4C40-81ED-C6A1635C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840C-FE23-4468-A020-BFE551D7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74A-B165-453C-98D7-42C31633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129-6FB7-42C0-B5B1-56E05D0D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D30C-5808-4208-9746-07996C92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your children are writ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n your hands: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are a m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neither forg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r forsakes he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Isaiah 49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fore we were born, you knew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our mothers’ womb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formed u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Psalm 139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fore all beginn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called us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yond all endings,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will remember us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be0e3"/>
                </a:solidFill>
                <a:latin typeface="Arial"/>
              </a:rPr>
              <a:t>Psalm 139: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, O Wisdom, do not forg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childr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ike a hen, you gather your chick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Matthew 23:37; Luke 13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27:00Z</dcterms:created>
  <dc:creator>Anon Anon</dc:creator>
  <dc:description/>
  <dc:language>en-US</dc:language>
  <cp:lastModifiedBy>Anon Anon</cp:lastModifiedBy>
  <dcterms:modified xsi:type="dcterms:W3CDTF">2005-08-09T05:06:22Z</dcterms:modified>
  <cp:revision>11</cp:revision>
  <dc:subject/>
  <dc:title>Prayer of Adoration (SLD-2)</dc:title>
</cp:coreProperties>
</file>