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1894-A89A-4684-93E3-7CD9D441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EEAE-893F-4EE8-92AA-915481EA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F749-1ABA-4AC5-BC35-01219844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FFA3-C73A-4644-9F2C-5991F238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61D4-3328-4D47-ADBB-B4ADDFE3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DD54-B14F-48D1-BE32-7E47B662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1083-A097-4279-B8F8-EC65050E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CD7F-BFF9-405D-B0CF-3F135548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D1B4-FCC3-40FF-8858-55D0C44F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1B71-7F30-45EF-992A-A8E44246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32DE-93F1-4C51-B838-A9346C99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A33A-8978-40FC-A684-1DC7A329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42AC-336C-4805-AF92-08A45D9CC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Prayer of Confession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od of all merc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ive us grace tod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make a fresh sta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know we have not loved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our whole hear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r have we loved our neighb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oursel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we hope to be forgiv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each us how to forgiv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lead us forward in a new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ere neither grudg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r resentment have a par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Jesus Christ our Lor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he leader says a scripture sentence, and then s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ear then Christ’s word of gr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o u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r sins are forgiven.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anks be to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Mark 2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6095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Prayer © 1999, </a:t>
            </a:r>
            <a:r>
              <a:rPr b="0" i="1" lang="en-US" sz="2400" spc="-1" strike="noStrike">
                <a:solidFill>
                  <a:srgbClr val="bbe0e3"/>
                </a:solidFill>
                <a:latin typeface="Arial Narrow"/>
              </a:rPr>
              <a:t>Methodist Worship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0T01:42:10Z</dcterms:created>
  <dc:creator>Anon Anon</dc:creator>
  <dc:description/>
  <dc:language>en-US</dc:language>
  <cp:lastModifiedBy>Anon Anon</cp:lastModifiedBy>
  <dcterms:modified xsi:type="dcterms:W3CDTF">2005-08-16T04:20:57Z</dcterms:modified>
  <cp:revision>17</cp:revision>
  <dc:subject/>
  <dc:title>PowerPoint Presentation</dc:title>
</cp:coreProperties>
</file>