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D63C-AD3A-4B6E-AED1-F6A72835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228C-AB65-49BD-BD75-83FEA851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D45A-6273-4464-A255-C4907E58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770F-DD33-48B2-A0BD-54DE7B2D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0F0-6A28-4091-95D0-184C4810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400-2423-4ECD-A8BE-2CE4BD64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0AC-94BB-49AF-8D55-F266CCD0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86E-6116-4C7D-BAB7-4FE7EC89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F4F-02E5-4A70-BB0D-F3831FC2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5FAC-A584-4C4F-B5E6-E1A717BA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28D-4DB3-43B4-A1D1-E01A002B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9B9-0D16-4445-9A5F-9D423608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AD5A-9F0A-4E4A-B662-AC582C5EE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Prayer after Commun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calls us together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makes us one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has forgiven our s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gives hope and freed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se Word is proclaim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is revealed as lover</a:t>
            </a: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alone has calle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refore we offer all that we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l we shall bec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ccept, O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ur sacrifice of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ccept our than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all that we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hands were emp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you filled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2:58:10Z</dcterms:created>
  <dc:creator>Anon Anon</dc:creator>
  <dc:description/>
  <dc:language>en-US</dc:language>
  <cp:lastModifiedBy>Anon Anon</cp:lastModifiedBy>
  <dcterms:modified xsi:type="dcterms:W3CDTF">2005-08-09T05:07:23Z</dcterms:modified>
  <cp:revision>12</cp:revision>
  <dc:subject/>
  <dc:title>Prayer after Communion (SLD-2)</dc:title>
</cp:coreProperties>
</file>