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640-17AB-40AE-AB4E-1DD5AF16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0DE-29B8-4467-9A20-AEA6C860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B9D-4DB5-438E-80DB-6C99C085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C4EC-C1A3-4FE4-960A-27576C79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7EE-77C7-4B51-91FB-E7007041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566-D7DF-4C93-AEED-51747B2F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783-4D6E-4901-A8E8-EB68E69B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664-12FA-4495-A468-7C3E8050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1C4-B3A0-4742-9690-756BD711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4A9-04FB-4844-A0DA-221023FB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B1E-42E7-4208-B5AD-E48BE000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91C-B704-41CD-BE79-4571506F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3A6A-BC33-49C6-92F1-63CED6648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of all merc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grace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make a fresh st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know we have not loved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have we loved our neighb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hope to be forgi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each us how to forgiv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lead us forward in a new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neither gru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resentment have a pa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095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2400" spc="-1" strike="noStrike">
                <a:solidFill>
                  <a:srgbClr val="bbe0e3"/>
                </a:solidFill>
                <a:latin typeface="Arial Narrow"/>
              </a:rPr>
              <a:t>Methodist Worship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01:42:10Z</dcterms:created>
  <dc:creator>Anon Anon</dc:creator>
  <dc:description/>
  <dc:language>en-US</dc:language>
  <cp:lastModifiedBy>Anon Anon</cp:lastModifiedBy>
  <dcterms:modified xsi:type="dcterms:W3CDTF">2005-08-16T04:20:57Z</dcterms:modified>
  <cp:revision>17</cp:revision>
  <dc:subject/>
  <dc:title>PowerPoint Presentation</dc:title>
</cp:coreProperties>
</file>