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A28-E6A9-45A4-9656-31420352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EA6-6436-473B-A893-E5DA4634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5E5-D414-4763-99A7-8C1A5EB5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3D2-2230-4D7F-9FE6-8A0DB8B4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2AB-FD55-43AC-AFB6-A470714A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D01-B1C3-4AAC-A431-54E8E834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4FE-FEF0-48AF-BEF9-6A5E6F30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F0C-3B31-4986-BBD1-F1D60FB7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DBE-7D65-4DE4-94A8-80CE31AF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4E7-2C6C-43CB-8CFA-BD1E0948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4A7-C3B0-4980-B08D-AE411E24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3F8-1DDE-4C8B-AF4B-5476633E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E5BB-F695-4765-9543-6B6E5BEA8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Narrow"/>
              </a:rPr>
              <a:t>Glory to God in the High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to God in the highe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peace to God’s peo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heavenly K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 an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orship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give you thank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praise you for your gl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ly So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take away the sin of the wor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re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ceive our pray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alone are the Holy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Most Hig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glory of God the Fath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0:20Z</dcterms:created>
  <dc:creator>Anon Anon</dc:creator>
  <dc:description/>
  <dc:language>en-US</dc:language>
  <cp:lastModifiedBy>Anon Anon</cp:lastModifiedBy>
  <dcterms:modified xsi:type="dcterms:W3CDTF">2005-08-09T05:26:53Z</dcterms:modified>
  <cp:revision>10</cp:revision>
  <dc:subject/>
  <dc:title>PowerPoint Presentation</dc:title>
</cp:coreProperties>
</file>