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533E-5F1F-4452-80F1-A4CD8EC45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216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1B1E-3318-4DF5-BE68-3D6172CA6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216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216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C11F-2B04-4150-A9BC-0B668F744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066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066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216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216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216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096E-267C-417C-9D07-384E619A7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D749-1D06-4459-A311-2A38DA520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3A8F-CF29-4DB9-A393-59D782EE9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6FE5-282B-4B13-84DF-A2AA4F985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9025-AC12-413A-86A0-E9B30D639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A302-D64F-4961-BC73-A6146D3F1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216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3BBB-191E-4757-AFF3-E9A44236D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216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122C-56A1-4ADE-8801-BDF4D2920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216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AFA8-3945-47A7-8D10-595A53A10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2719E-3F61-459C-8BB8-1B5E873841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be0e3"/>
                </a:solidFill>
                <a:latin typeface="Arial Narrow"/>
              </a:rPr>
              <a:t>Nicene Cre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e believe in one God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 algn="just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he Father, the Almighty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 algn="just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maker of heaven and earth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 algn="just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of all that is, seen and unse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3520" y="6095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1 of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e believe in one Lord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Jesus Christ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he only Son of God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eternally begotten of the Father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God from God, Light from Light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6095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2 of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rue God from true God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begotten, not made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of one Being with the Father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hrough him all thing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ere mad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6095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3 of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For us and for our salv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he came down from heaven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as incarnate of the Holy Spirit and the Virgin 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nd became truly huma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3520" y="6095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4 of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For our sake he was crucifie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under Pontius Pilate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he suffered death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nd was burie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On the third day he rose ag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n accordanc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ith the Scriptures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6095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5 of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he ascended into heav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nd is seated at the right han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of the Fath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He will come again in gl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o judge the living and the dead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nd his kingdom will have no en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6095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6 of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e believe in the Holy Spirit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he Lord, the giver of life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ho proceeds from the Father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ho with the Father and the 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s worshipped and glorified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ho has spoke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hrough the prophet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33520" y="6095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7 of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e believe in one holy cathol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 algn="just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nd apostolic Churc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e acknowledge one bapt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for the forgiveness of sin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6095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8 of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e look for the resurrec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of the dead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nd the life of the world to come. 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m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6095880"/>
            <a:ext cx="83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9 of 9</a:t>
            </a: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bbe0e3"/>
                </a:solidFill>
                <a:latin typeface="Arial Narrow"/>
              </a:rPr>
              <a:t>ELLC 198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1T08:07:06Z</dcterms:created>
  <dc:creator>Anon Anon</dc:creator>
  <dc:description/>
  <dc:language>en-US</dc:language>
  <cp:lastModifiedBy>Anon Anon</cp:lastModifiedBy>
  <dcterms:modified xsi:type="dcterms:W3CDTF">2005-08-16T04:24:38Z</dcterms:modified>
  <cp:revision>26</cp:revision>
  <dc:subject/>
  <dc:title>Nicene Creed</dc:title>
</cp:coreProperties>
</file>